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3.wmf" ContentType="image/x-wmf"/>
  <Override PartName="/ppt/media/image10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4.wmf" ContentType="image/x-wmf"/>
  <Override PartName="/ppt/media/image28.jpeg" ContentType="image/jpeg"/>
  <Override PartName="/ppt/media/image14.wmf" ContentType="image/x-wmf"/>
  <Override PartName="/ppt/media/image27.jpeg" ContentType="image/jpeg"/>
  <Override PartName="/ppt/media/image16.wmf" ContentType="image/x-wmf"/>
  <Override PartName="/ppt/media/image23.jpeg" ContentType="image/jpeg"/>
  <Override PartName="/ppt/media/image18.jpeg" ContentType="image/jpeg"/>
  <Override PartName="/ppt/media/image21.wmf" ContentType="image/x-wmf"/>
  <Override PartName="/ppt/media/image22.jpeg" ContentType="image/jpeg"/>
  <Override PartName="/ppt/media/image15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2DF-7224-4848-BC37-312BC076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663-987D-4DC8-AFCE-5DD00F58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13F-8F71-4F17-A713-3BA53D54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B96-755C-4B70-AE34-1B6029FB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DC83-8D60-45BB-921F-D3927149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30A9-F6D4-43FA-AA51-C062FBD8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F4E3-DADE-4066-9897-F727872E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4F2A-2CA1-415C-82B0-0D45A205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2A96-0FD8-4321-A8B2-860E7DD1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EA9D-4401-4C00-B292-D5B84CBF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46D2-7571-470C-B606-B6E06922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701F-F571-44A6-AF43-D05A76A2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CDA1-F4F5-4059-AF40-B5C6E1AC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352B-90E5-4F0B-9595-F198B328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5C28-80B0-494D-8EAE-B8F60C51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56DC-43E4-45F9-A884-4F90C879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093D-DECA-4BED-BAA4-42F9688D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68B-EBE0-496F-BB1B-B2B4FF7E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950-81AE-42D7-BF0B-2AA6B464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83E-A139-441F-8809-421CFF18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7BD3-ADE1-432C-8BEC-D633985C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6485-C173-492B-9133-D769E6D2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C7B-1521-4BA0-98D0-EDB1EE9C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51A-0BE9-4E59-881B-AB8C44BC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CE89-8292-4188-A257-1D229052A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9951-6EEC-4533-9891-74D629D3CC0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4 -Day 7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ws of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s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the resistance of an object to changes in its motion due to a 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alar quant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 units are k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ewton’s Second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cceleration of an object is directly proportional to the net force acting on it and inversely proportional to its ma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 and a are both v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also be applied three-dimension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854360" y="3338640"/>
          <a:ext cx="3921120" cy="10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3338640"/>
                    <a:ext cx="392112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ts of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 unit of force is a Newton (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 Customary unit of force is a pound (lb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N = 0.225 l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 table 4.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2286000" y="2666880"/>
                <a:ext cx="19810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≡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r Isaac Newt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642 – 172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ulated basic concepts and laws of mechan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versal Grav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ght and op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5029200" y="1854360"/>
            <a:ext cx="3987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vitational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tual force of attraction between any two obj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ressed by Newton’s Law of Universal Gravit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2209680" y="4235400"/>
                <a:ext cx="213372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eigh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gnitude of the gravitational force acting on an object of mas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near the Earth’s surface is called the weight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the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 = m 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special case of Newton’s Second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acceleration due to gra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an also be found from the Law of Universal Grav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weigh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ight i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 inherent property of an objec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s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 inherent proper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ight depends upon lo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ewton’s Third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object 1 and object 2 interact, the force exerted by object 1 on object 2 is equal in magnitude but opposite in direction to the force exerted by object 2 on object 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ivalent to saying a single isolated force cannot ex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2057400" y="4419720"/>
          <a:ext cx="1905120" cy="69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419720"/>
                    <a:ext cx="190512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ewton’s Third Law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y be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ce and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e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ually, either force can be the action or the reaction fo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ction and reaction forces act o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3962520" y="2220840"/>
            <a:ext cx="51051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y 8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annon ball is fired across a 1000m wide canyon with a horiz. Vel. of 100m/s. How far down the far wall will the cannon ball strik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test ch 1-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i Ho Silver!!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rse A (Appaloosa)leaves from point A and travels 30mph. Horse B (Arabian) leaves point A, 2 hours later traveling at 50 mph. When will they meet?? (is this a time problem?)(same directio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Action-Reaction Pai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ce, the force the table exerts on the T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lways perpendicular to the su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reaction – the TV on the 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838080" y="2209680"/>
          <a:ext cx="14479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1447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6"/>
          <p:cNvGraphicFramePr/>
          <p:nvPr/>
        </p:nvGraphicFramePr>
        <p:xfrm>
          <a:off x="1219320" y="5257800"/>
          <a:ext cx="990360" cy="3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5257800"/>
                    <a:ext cx="99036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7"/>
          <p:cNvGraphicFramePr/>
          <p:nvPr/>
        </p:nvGraphicFramePr>
        <p:xfrm>
          <a:off x="1143000" y="2666880"/>
          <a:ext cx="23976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666880"/>
                    <a:ext cx="2397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8"/>
          <p:cNvGraphicFramePr/>
          <p:nvPr/>
        </p:nvGraphicFramePr>
        <p:xfrm>
          <a:off x="1219320" y="3657600"/>
          <a:ext cx="23976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657600"/>
                    <a:ext cx="2397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9"/>
          <p:cNvGraphicFramePr/>
          <p:nvPr/>
        </p:nvGraphicFramePr>
        <p:xfrm>
          <a:off x="1165320" y="4624560"/>
          <a:ext cx="347400" cy="30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65320" y="4624560"/>
                    <a:ext cx="3474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Picture 13" descr=""/>
          <p:cNvPicPr/>
          <p:nvPr/>
        </p:nvPicPr>
        <p:blipFill>
          <a:blip r:embed="rId11"/>
          <a:stretch/>
        </p:blipFill>
        <p:spPr>
          <a:xfrm>
            <a:off x="4191120" y="1981080"/>
            <a:ext cx="48765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ction-Reaction pai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force the Earth exerts on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force the object exerts on the ear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457200" y="2382840"/>
          <a:ext cx="160020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82840"/>
                    <a:ext cx="16002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9"/>
          <p:cNvGraphicFramePr/>
          <p:nvPr/>
        </p:nvGraphicFramePr>
        <p:xfrm>
          <a:off x="838080" y="2819520"/>
          <a:ext cx="385920" cy="57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819520"/>
                    <a:ext cx="3859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0"/>
          <p:cNvGraphicFramePr/>
          <p:nvPr/>
        </p:nvGraphicFramePr>
        <p:xfrm>
          <a:off x="838080" y="3962520"/>
          <a:ext cx="385920" cy="57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962520"/>
                    <a:ext cx="3859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1"/>
          <p:cNvGraphicFramePr/>
          <p:nvPr/>
        </p:nvGraphicFramePr>
        <p:xfrm>
          <a:off x="1052640" y="5181480"/>
          <a:ext cx="1323720" cy="57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52640" y="5181480"/>
                    <a:ext cx="132372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Picture 13" descr=""/>
          <p:cNvPicPr/>
          <p:nvPr/>
        </p:nvPicPr>
        <p:blipFill>
          <a:blip r:embed="rId9"/>
          <a:stretch/>
        </p:blipFill>
        <p:spPr>
          <a:xfrm>
            <a:off x="3809880" y="1835280"/>
            <a:ext cx="51958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rces Acting on an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ton’s Law uses the forces acting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acting on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acting on other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2" name="Object 6"/>
          <p:cNvGraphicFramePr/>
          <p:nvPr/>
        </p:nvGraphicFramePr>
        <p:xfrm>
          <a:off x="1600200" y="3581280"/>
          <a:ext cx="167652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581280"/>
                    <a:ext cx="167652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7"/>
          <p:cNvGraphicFramePr/>
          <p:nvPr/>
        </p:nvGraphicFramePr>
        <p:xfrm>
          <a:off x="1521000" y="4800600"/>
          <a:ext cx="1834920" cy="6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1000" y="4800600"/>
                    <a:ext cx="183492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Picture 9" descr=""/>
          <p:cNvPicPr/>
          <p:nvPr/>
        </p:nvPicPr>
        <p:blipFill>
          <a:blip r:embed="rId5"/>
          <a:stretch/>
        </p:blipFill>
        <p:spPr>
          <a:xfrm>
            <a:off x="5257800" y="1905120"/>
            <a:ext cx="2577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Newton’s Law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jects behave as 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ignore rotational motion (for no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sses of strings or ropes are neglig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ested only in the forces acting on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neglect reaction for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e Body Diagra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identify all the forces acting on the object of inter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oose an appropriate coordinat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 free body diagram is incorrect, the solution will likely be incorr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e Body Diagram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461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   is the tension acting on the bo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nsion is the same at all points along the ro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the forces exerted by the earth and the gro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Object 7"/>
          <p:cNvGraphicFramePr/>
          <p:nvPr/>
        </p:nvGraphicFramePr>
        <p:xfrm>
          <a:off x="874800" y="4191120"/>
          <a:ext cx="167616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191120"/>
                    <a:ext cx="167616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Picture 8" descr=""/>
          <p:cNvPicPr/>
          <p:nvPr/>
        </p:nvPicPr>
        <p:blipFill>
          <a:blip r:embed="rId3"/>
          <a:stretch/>
        </p:blipFill>
        <p:spPr>
          <a:xfrm>
            <a:off x="4952880" y="2286000"/>
            <a:ext cx="3962520" cy="3846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4"/>
          <a:stretch/>
        </p:blipFill>
        <p:spPr>
          <a:xfrm>
            <a:off x="2590920" y="1981080"/>
            <a:ext cx="3445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e Body Diagram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ly forces acting directly on the object are included in the free body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on forces act on other objects and so are not inclu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ction forces do not directly influence the object’s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lving Newton’s Second Law Problem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problem at least o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ra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 picture of th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object of primary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e forces with arr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ach 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labels that bring to mind the physical quantity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lving Newton’s Second Law Problem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ra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free body dia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dditional objects are involved, draw separate free body diagrams for each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ose a convenient coordinate system for each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pply Newton’s Second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x- and y-components should be taken from the vector equation and written separat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olv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the unknown(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ilibri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bject either at rest or moving with a constant velocity is said to be in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t force acting on the object is zero (since the acceleration is zero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2895480" y="5181480"/>
          <a:ext cx="1897200" cy="8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5181480"/>
                    <a:ext cx="189720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assical Mechanic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s the relationship between the motion of objects in our everyday world and the forces acting on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hen Classical Mechanics does not app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y tiny objects (&lt; atomic siz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s moving near the speed of l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ilibrium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sier to work with the equation in terms of its componen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could be extended to three dimen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2209680" y="3200400"/>
          <a:ext cx="449604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449604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ilibrium Example – Free Body Diagram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469800" y="2133720"/>
            <a:ext cx="821700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clined Plan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the coordinate system with x along the incline and y perpendicular to the inc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lace the force of gravity with its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4648320" y="1854360"/>
            <a:ext cx="43765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ultiple Objects – Example 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you have more than one object, the problem-solving strategy is applied to each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aw free body diagrams for each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y Newton’s Laws to each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ve the equ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ultiple Objects – Example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867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y 9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50 kg block rests on a 24 degree inclined plane. What force in Newtons pushes the block into the plane? What force in Newtons tries to move the block down the plan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rces of Fri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n object is in motion on a surface or through a viscous medium, there will be a resistance to the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due to the interactions between the object and its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resistance is called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Fri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iction is proportional to the normal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of static friction is generally greater than the force of kinetic fr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friction (µ) depends on the surfaces i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irection of the frictional force is opposite the direction of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s of friction are nearly independent of the area of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c friction acts to keep the object from mov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F increases, so does ƒ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F decreases, so does ƒ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ƒ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µ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5918040" y="76320"/>
            <a:ext cx="3149640" cy="64767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tic Friction, ƒ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Verdan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w to prove that Fs varies?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friction move an object by itself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happens if you push an object with a force less than Fs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ually think of a force as a push or pu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ctor quant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tact for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eld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ct forces result from physical contact between two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eld forces act between disconnected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called “action at a distanc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inetic Friction, ƒ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Verdana"/>
              </a:rPr>
              <a:t>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of kinetic friction acts when the object is in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ƒ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µ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tions of the coefficient with speed will be igno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6370560" y="152280"/>
            <a:ext cx="2773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lock on a Ramp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xes are rotated as usual on an inc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rection of impending motion would be down the pla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iction acts up the pla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poses the 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y Newton’s Laws and solve equ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52578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nect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bjec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y Newton’s Laws separately to each obje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gnitude of the acceleration of both objects will be the s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nsion is the same in each dia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 the simultaneous equ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7" descr=""/>
          <p:cNvPicPr/>
          <p:nvPr/>
        </p:nvPicPr>
        <p:blipFill>
          <a:blip r:embed="rId1"/>
          <a:stretch/>
        </p:blipFill>
        <p:spPr>
          <a:xfrm>
            <a:off x="5791320" y="1930320"/>
            <a:ext cx="252576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Connected Objec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ing the system as one object allows an alternative method or a che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nly external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the tension – it’s inter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ss is the mass of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n’t tell you anything about any internal fo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ggs -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ve a 2 mass pulley problem where m1 = 25 kg, m2 = 15 kg by connected motion and compare to regular solutio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,6,8,12,15,19,26,27,30,38,40,4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llenge problem #5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d Day 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tact and Field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2362320" y="2133720"/>
          <a:ext cx="464796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133720"/>
                    <a:ext cx="464796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undamental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nuclear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magnetic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ak nuclear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field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d in order of decreasing str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gravity and electromagnetic in mechan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ewton’s First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bject moves with a velocity that is constant in magnitude and direction, unless acted on by a nonzero net 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t force is defined as the vector sum of all the external forces exerted on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xternal and Internal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orce that results from the interaction between the object and its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nal fo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ces that originate within the object itse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cannot change the object’s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erti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tendency of an object to continue in its original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6T16:02:25Z</dcterms:created>
  <dc:creator>Marilyn Akins</dc:creator>
  <dc:description/>
  <dc:language>en-US</dc:language>
  <cp:lastModifiedBy>gandella</cp:lastModifiedBy>
  <dcterms:modified xsi:type="dcterms:W3CDTF">2010-09-08T11:06:07Z</dcterms:modified>
  <cp:revision>43</cp:revision>
  <dc:subject/>
  <dc:title>Chapter 4</dc:title>
</cp:coreProperties>
</file>